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013-ACC5-4E20-96ED-0E7B5357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2FA-9286-45F9-B876-A48CD60E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FE0-C4B4-4479-851B-A6939443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124-1EE1-4F37-B899-E6321950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DED2-E014-4504-ADF3-03C90D77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2E46-B5E5-45EA-B5AD-868B9CE7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D30D-002E-403C-A0F5-38786CDA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D3CD-5994-497B-B79B-A7144A47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A2E1-D4DE-4074-9304-83C602C8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663C-BE8C-4A29-8CA9-2EC02DE8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7B99-112A-4685-B32F-B427003B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C37-7E9E-48E6-B4E7-78026831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50B4-F04A-495F-955D-7D5868CA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F56F-B1B1-4371-9006-6380EA45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4409-09FB-4D22-8073-82A65F56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279D-7A4E-42D0-89EC-B6074712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0287-3296-4BDE-A5A9-7CAD8976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454-3829-41FD-98E6-87ACCDC3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409-28D3-4D73-8D0A-E1E38DD6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DFF-D793-4A1C-8F27-31B90FB8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651-DBA1-4552-ABA1-6322587E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ED7-B08D-4BEB-9F7B-5F098A65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651-627E-4297-BDD2-EB53B17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5C6-7FED-4BA6-9200-B094C9FA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FAE1-6670-4399-BBD6-3565214D47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000" y="2321280"/>
                    <a:ext cx="2560680" cy="2739960"/>
                    <a:chOff x="5760000" y="2321280"/>
                    <a:chExt cx="2560680" cy="27399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520" y="3019320"/>
                      <a:ext cx="21286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4160"/>
                    <a:ext cx="3039840" cy="2530440"/>
                    <a:chOff x="5787720" y="2144160"/>
                    <a:chExt cx="303984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000"/>
                    <a:ext cx="3097800" cy="1994760"/>
                    <a:chOff x="5774760" y="2061000"/>
                    <a:chExt cx="3097800" cy="19947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396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280"/>
                      <a:ext cx="2067480" cy="41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040" cy="1004400"/>
                    <a:chOff x="5805720" y="1874880"/>
                    <a:chExt cx="2939040" cy="10044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9320"/>
                      <a:ext cx="102312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4896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104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1040"/>
                    <a:ext cx="2557440" cy="2742480"/>
                    <a:chOff x="2646000" y="2471040"/>
                    <a:chExt cx="255744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600" y="316872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000"/>
                      <a:ext cx="11426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4840"/>
                    <a:ext cx="3039840" cy="2532240"/>
                    <a:chOff x="2084040" y="236484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748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84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79160"/>
                    <a:ext cx="3096720" cy="1992600"/>
                    <a:chOff x="2040480" y="2279160"/>
                    <a:chExt cx="309672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680" y="345924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160" cy="1608840"/>
                    <a:chOff x="2010960" y="218556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4840"/>
                    <a:ext cx="2937240" cy="1002960"/>
                    <a:chOff x="2167560" y="2094840"/>
                    <a:chExt cx="2937240" cy="10029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084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28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460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18480"/>
                    <a:ext cx="2364120" cy="788760"/>
                    <a:chOff x="2760480" y="1518480"/>
                    <a:chExt cx="236412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704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6560"/>
                    <a:ext cx="2170080" cy="1507320"/>
                    <a:chOff x="3161160" y="826560"/>
                    <a:chExt cx="217008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80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4520"/>
                    <a:ext cx="1987920" cy="1829160"/>
                    <a:chOff x="3436920" y="434520"/>
                    <a:chExt cx="1987920" cy="18291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640" y="664560"/>
                      <a:ext cx="8283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5800"/>
                    <a:ext cx="1463400" cy="1892880"/>
                    <a:chOff x="4026960" y="325800"/>
                    <a:chExt cx="1463400" cy="18928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39640"/>
                      <a:ext cx="13597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640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7960"/>
                    <a:chOff x="4447800" y="245520"/>
                    <a:chExt cx="1124280" cy="19479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7160"/>
                    <a:ext cx="2318760" cy="1113840"/>
                    <a:chOff x="5661720" y="94716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54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2120" cy="1452600"/>
                    <a:chOff x="5529600" y="619920"/>
                    <a:chExt cx="220212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7840"/>
                    <a:ext cx="1191600" cy="1898280"/>
                    <a:chOff x="5358240" y="267840"/>
                    <a:chExt cx="1191600" cy="18982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320" y="1413720"/>
                      <a:ext cx="1309320" cy="226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680" y="382680"/>
                    <a:ext cx="1889640" cy="1795680"/>
                    <a:chOff x="5350680" y="382680"/>
                    <a:chExt cx="1889640" cy="17956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600" y="1381320"/>
                      <a:ext cx="142632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9600"/>
                      <a:ext cx="7675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5320"/>
                    <a:ext cx="876600" cy="2932200"/>
                    <a:chOff x="4507560" y="2695320"/>
                    <a:chExt cx="876600" cy="29322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280" y="3483000"/>
                      <a:ext cx="18907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0400"/>
                    <a:ext cx="2280960" cy="2954160"/>
                    <a:chOff x="5677560" y="2480400"/>
                    <a:chExt cx="2280960" cy="295416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8280"/>
                      <a:ext cx="21276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4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91640"/>
                    <a:ext cx="1756800" cy="3031200"/>
                    <a:chOff x="5646600" y="2591640"/>
                    <a:chExt cx="175680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880"/>
                      <a:ext cx="10897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6840"/>
                    <a:ext cx="1228680" cy="2990520"/>
                    <a:chOff x="5576400" y="2706840"/>
                    <a:chExt cx="122868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38440"/>
                      <a:ext cx="19731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0880"/>
                      <a:ext cx="105984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680" y="2883600"/>
                    <a:ext cx="664560" cy="2716920"/>
                    <a:chOff x="4963680" y="2883600"/>
                    <a:chExt cx="66456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200" y="3661920"/>
                      <a:ext cx="17744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160" y="4926240"/>
                      <a:ext cx="95112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760"/>
                    <a:ext cx="3166560" cy="25275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360"/>
                    <a:ext cx="248688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8880"/>
                    <a:ext cx="1758240" cy="29368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4920"/>
                    <a:ext cx="3133440" cy="29368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0880"/>
                    <a:ext cx="515160" cy="1880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000"/>
                <a:ext cx="46980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8B39-EB80-48CB-943E-185A15FCA311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3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Имена существительные собственные и нарицательные.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Студентки 4 курс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филологического факультета КГП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узнецовой Светланы Владимиров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2286000" y="57913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</a:rPr>
              <a:t>Сыктывкар 20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19760" cy="21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Основополагающий вопрос проекта:</a:t>
            </a:r>
            <a:br>
              <a:rPr sz="4000"/>
            </a:b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2895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cc00"/>
                </a:solidFill>
                <a:uFillTx/>
                <a:latin typeface="Monotype Corsiva"/>
              </a:rPr>
              <a:t>Что такое имя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Что мы узнаем?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Что такое имя существительное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Чем отличаются собственные и нарицательные имена существительные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Как на письме различить собственные и нарицательные имена существительные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Дидактические цели проекта: 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Развитие устной и письменной речи учащихс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Формирование знаний о собственных и нарицательных именах существительных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868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едставление результатов исследований: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Презентация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россворд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Творческая презентация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Создание карточек, таблиц, схем;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одолжительность проекта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время выполнения: две недели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количество часов: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3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количество уроков: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3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Этапы проведения 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оекта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22096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выбор ,  формулировка темы;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поиск информации;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самостоятельная работа учащихся;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защита проекта;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22160" y="1600200"/>
            <a:ext cx="77724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HTTP://WWW.TRAKTAT.COM/LANGUAGE/BOOK/SUSH/SOB.PHP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HTTP://RUSGRAM.NAROD.RU/1121-1146.HTM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HTTP://RU.WIKIPEDIA.ORG/WIKI/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ИЦАТЕЛЬНОЕ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HTTP://WWW.RUSSISCH-FUER-KINDER.DE/DE_START/SCHULE/TEXTE.PHP?AUSWAHL=IS_SOBSTVENNYJ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2216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Информационные ресурсы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04-28T15:54:4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